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7DB-E09C-446E-857D-FE48B311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1BD-AF37-438F-8FCE-101EA2AF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3E8-6DDF-4246-B303-59DEF955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5F6-2268-457F-B07D-83D0CEB4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4B2-ABCD-45E8-B0A3-DE32298A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5BD-EE2C-49A3-81FA-C2809030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26E-1CE8-4DF7-B734-18FF04DF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E4B-0C5E-4DA9-B951-A10413FC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570-D12E-4199-ABBC-0B8BC3A9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0F4-DCD4-4FDF-B603-E2BFF3D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06D-416F-4413-8D22-0A0EF470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E36-2C49-4078-8419-1807BFA4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E185-58FB-4770-91DB-06B72CEF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br>
              <a:rPr sz="4400"/>
            </a:b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Work </a:t>
            </a:r>
            <a:r>
              <a:rPr b="0" i="1" lang="en-US" sz="3000" spc="-1" strike="noStrike" u="sng">
                <a:solidFill>
                  <a:srgbClr val="009999"/>
                </a:solidFill>
                <a:uFillTx/>
                <a:latin typeface="Arial"/>
              </a:rPr>
              <a:t>silently</a:t>
            </a: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 = earn 5 poin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o questions 1-2 until the dott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-228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ntence is complete if it h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a verb – explains the action or state of being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a subject – what/whom the sentence is about (noun or pronou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t’s a complete thought (you’re not left asking a ques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8001000" cy="19814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1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bo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an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drive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2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ri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 looking for verbs and subjects on your hando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09480"/>
            <a:ext cx="952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o figure out if something i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FRAGMENT or a COMPLETE SENTENCE, we must ask ourselv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362320"/>
            <a:ext cx="853416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Does it have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Does it hav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it a complete though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If ALL answers are YES = a complete sent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If any answers are NO = a fragme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daily exercise tomorrow with the bottom question answered --- in detail and thought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y kill Si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otice about the description on the top of 153 about HOW they killed hi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Golding choose for SIMON to be the one to die?  What might this symbol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3:48:45Z</dcterms:created>
  <dc:creator>Carolynn</dc:creator>
  <dc:description/>
  <dc:language>en-US</dc:language>
  <cp:lastModifiedBy>Carolynn</cp:lastModifiedBy>
  <dcterms:modified xsi:type="dcterms:W3CDTF">2010-04-26T20:39:47Z</dcterms:modified>
  <cp:revision>12</cp:revision>
  <dc:subject/>
  <dc:title>WRITE Now:  (1) Take out a piece of paper to take notes on.  Label it with the date (1/29).  (2) The paragraph below is TERRIBLE.  Find the obvious errors and write corrections in your notes.  (There may be more than one way to correct an error.) </dc:title>
</cp:coreProperties>
</file>